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D9B4-42C3-4AD5-8631-07B816F2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1CB5-2F3E-43ED-AFA1-00CC9914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6A7D-5AC0-4C32-82B3-6618AD33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E1CD-FDC7-4DFC-A72C-001AB370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FC66-A40A-45D9-9B5B-28256A0F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AFC1-B6DE-47A8-92D8-B008BA35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2A21-B662-495A-8F94-76F0AE24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9220-53F0-45E5-9408-C2D5DC3D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B590-8D52-4018-976E-4B223621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7497-EAA7-46D9-82FB-B200378E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E6C0-90C6-4CC3-863B-E99352E3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12A1-909F-431A-8245-F26843A2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5D21-E77E-42F2-8DAF-4A04BEA5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D856-A47B-4502-AB97-8F627638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098E-15F0-423C-B08D-28DF2727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9A2D-C787-472E-B286-9549CC15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41FF-C556-4129-B105-30A658EB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23F7-0F5A-4447-9743-F95BE7F2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201F-4030-4106-8AAA-53EBCE14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6101-BA6C-4B7C-9A7F-298AC7A3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364C-876C-4C9E-A191-94485809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AAA2-FDAF-473F-B546-02D14E9C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C317-48EB-4AC0-ADBE-13095B6E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147F-D3EB-4315-A9D0-6E10CD1F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95AA-D7F0-4D61-8C67-45E92C21058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63B7-2382-48B3-AE0B-936C951C31E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B B &amp; V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ly Re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come, Expenses, and Prof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1600200"/>
          <a:ext cx="8229600" cy="45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y Recommend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of all the information I gathered, I have concluded that  B B &amp; V is worthy of a financial loan of up to 750,000 dollars. They have shown significant profit for the 2008 season and expectantly will show the same or more for the subsequent seas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3:30:16Z</dcterms:created>
  <dc:creator>evalen00</dc:creator>
  <dc:description/>
  <dc:language>en-US</dc:language>
  <cp:lastModifiedBy>evalen00</cp:lastModifiedBy>
  <dcterms:modified xsi:type="dcterms:W3CDTF">2010-11-23T13:48:50Z</dcterms:modified>
  <cp:revision>2</cp:revision>
  <dc:subject/>
  <dc:title>B B &amp; V</dc:title>
</cp:coreProperties>
</file>